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C3A1-C01E-4AED-86B8-289E6FF8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599C-F0D5-4428-8BB7-40BB55E8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53E-8B72-456A-8DDD-BC3EC5E9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69AB-9952-4FD4-8D84-90772A05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1FE2-2619-42AC-9C97-F055A867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22A2-F798-40E2-889B-992035F3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DF92-DB27-4E95-9642-1D044070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BB93-D7E9-4012-9E07-8750AB46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902E-2969-4660-9968-2CD00351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775C-E60A-4045-BA3A-5D96F138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4954-BC3F-4201-9129-71E40B5A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B7E-D1F2-46F8-B2CF-AFB84F6D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4474-4739-4BD7-A199-8886E279B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LLEND  50TH                                      I.B.M.                                                I.B.M.                                     INNELLAN                                             INNELLAN                                   INNELLAN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NELLAN  150TH                                       INVERKIP                              INVERKIP  100TH                              KILMACOLM                                  KINGARTH                      KIRN  &amp;  HUNTERS  QUAY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0520" y="0"/>
            <a:ext cx="176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13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N                                                       KIRN                                            KIRN                                          KIRN  100TH                                 LADY  ALICE                                LADY  ALICE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310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DY  ALICE  50TH                          LADY  ALICE  75TH                              PARKLEA                                 PARKLEA  50TH                          PORT  GLASGOW                           PORT  GLASGOW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21600" y="333360"/>
            <a:ext cx="85896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31800" y="1989000"/>
            <a:ext cx="1116000" cy="109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289240" y="2060640"/>
            <a:ext cx="107928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097600" y="191628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608880" y="206064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8193240" y="2349360"/>
            <a:ext cx="841320" cy="814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31800" y="3357720"/>
            <a:ext cx="1206360" cy="1376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657600" y="3500280"/>
            <a:ext cx="1133640" cy="126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2289240" y="3357720"/>
            <a:ext cx="1133280" cy="1412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5097600" y="3357720"/>
            <a:ext cx="1261800" cy="1361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537240" y="357336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8048520" y="364500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2216160" y="5300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631800" y="5084640"/>
            <a:ext cx="1133640" cy="1362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3657600" y="537372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5168880" y="5373720"/>
            <a:ext cx="104292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6608880" y="5300640"/>
            <a:ext cx="1042920" cy="115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8048520" y="5229360"/>
            <a:ext cx="1024200" cy="117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6681960" y="260280"/>
            <a:ext cx="91440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4881600" y="115920"/>
            <a:ext cx="1206360" cy="1316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3657600" y="260280"/>
            <a:ext cx="98748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3800520" y="2133720"/>
            <a:ext cx="911160" cy="1027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704880" y="549360"/>
            <a:ext cx="1096920" cy="826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2216160" y="189000"/>
            <a:ext cx="99864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09:38:52Z</dcterms:created>
  <dc:creator>JOHN YOUNG</dc:creator>
  <dc:description/>
  <dc:language>en-US</dc:language>
  <cp:lastModifiedBy>JY</cp:lastModifiedBy>
  <dcterms:modified xsi:type="dcterms:W3CDTF">2007-10-19T14:04:52Z</dcterms:modified>
  <cp:revision>33</cp:revision>
  <dc:subject/>
  <dc:title>No Slide Title</dc:title>
</cp:coreProperties>
</file>